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F77-D50E-448A-9944-23696E1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508-2F88-470F-9158-23F21DD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0A632-3DF1-441A-8084-2666F15D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2765-30CB-45BB-9D2A-76B2E881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76E71-CF46-4444-8E34-3085018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FFCC-1A4A-41D6-9FF1-0581B5F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42D8B-7C25-46BD-A911-8F33EADA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EA5F-B6BB-4ECD-8011-4F557D97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C3577-1586-4D97-B6A0-EE3D094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EB6B5-394C-43D1-B4C6-B4F120DB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4AF69-EB0F-40DD-89A7-B95BF031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048A1-FB49-4BF4-836A-DE7C782D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A60-EF44-4C3B-85C4-32C1A71F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A4CCC-2A92-4CBB-820E-D132A82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B5913-5C9D-4986-8CDE-489E24E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D299-0472-4734-950A-65178BE5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DD47B-B441-4E3D-9CFC-BC0845A5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A6447-DA3F-4181-AEE5-308E972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8DF00-72A8-482B-9626-01DAD21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BF6C0-74DB-4731-ACD9-A6710885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6E13B-1FB3-45F1-A063-DC408F8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2211D-79A0-413C-A572-F3E2563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890B0-42F5-4724-A62F-1DB75B84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CEC-35A3-4CB1-A6D5-AF44A8E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ACFBA-C84A-42ED-A029-DFB266BF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00ACC-E5C3-4249-BD22-5BA31932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5ED1-AE62-4862-9844-E59F4F53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D3B0-5A5D-4DB9-A820-02479F2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313B-172B-4536-AF6D-BEA4279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6E0D-941C-4A6D-A0C6-DFF5037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4B23-525D-4CE1-AC33-E316A496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A7174-8166-4DCE-B886-3AEFD1C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D975-400C-4717-8033-E0BDE59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3F378-B2EB-4EB5-9A81-FC15E5E6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F645-D0B2-437A-A398-97C8390A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D8E2E-A1BD-49CA-9745-2F1CB45B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37DC-56C6-456C-BFCA-5BBC4FB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763B8-D128-4969-98A3-D612CC53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BB433-BD38-4D91-B0FB-24E96320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7FDC7-0B9B-41AD-9105-3EAB2EA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B4ED-17C8-4008-9A6F-399574E7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21460-02E6-43D3-9934-110540A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6AE0-7343-4BB8-A0CD-5442AE4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642B9-DA31-4375-8EBA-6FF0201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4D39C-6EE5-4165-A539-1F841BB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A3F-C352-4614-9A71-A0348A40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A60AA-CAAD-471E-9FEE-AB6092C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2A64E-87A0-4428-A89D-6974D175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14B3A-5C18-4888-8035-C94D47EA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9C230-DFB0-4EED-BAFE-96237005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C2572-C1E0-4803-9C15-E94399F1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7709-8C03-4D83-ADE8-A28E74E4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DC2D-02B7-4097-A269-2ECAD1A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4B6-3B61-4AB0-B6E8-51EEF73D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BDB-32B9-4ED1-9000-B2258EBE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BC33-39B1-4B84-855D-C49E86D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92D-D671-4136-A1B5-1EA72C91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1695-7374-4112-BBA8-ACB8FBA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465A-93DA-4758-9555-359128D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64D-9900-4101-A0C6-3A765A0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6C7-A9B6-48BA-997D-212B10B4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3BAA-AC6E-49C7-A151-FD2E5820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C56E-FCA6-487F-BBE0-7BF5D900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AFE5-9DF6-4253-8EF1-A78A1F2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C121-7CF0-4EAB-A0AB-384C2217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0C88-A224-4EA9-A102-9F75981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B479-3DAA-4CFB-A6F0-1E66AB7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2DF-0572-4ED9-9BFD-2C14F51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041E-DA1C-4597-9ABB-3601636A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EECD-88EE-486F-B0F5-1852CE9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67B4-E1B1-444E-A0D1-35E14FAA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4E1A-CF19-4677-8564-5A52FDC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6ADC-9349-46EC-B376-430A945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997A-EA13-4CE0-8CF8-F279AC68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114B-608A-4E55-846D-D1FAB9FB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93F9-C4EB-4176-A7EB-0936122E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7766-15A6-4AE2-9634-DD67CEE4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C496-3E3C-4A88-B3D7-FAA5CC3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FF5-F286-4489-8F62-6CC792B4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C620-C24A-4E2C-A1D6-2857EE97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BE4B-49EE-49E3-B5AE-3386A09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92CE-1288-4397-8D5E-D873BD3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4D2C-CB6D-4818-A691-13860DB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CC8F-E748-47B5-BA7B-E013B56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E6DD-D46C-4C96-B77F-FE55282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91A3-6512-4F34-A946-67BEAB8E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C1EC-B19D-47C3-AE7F-AA4A8F18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E496-0FA3-4C8F-B7F9-6468B6BE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70E9-1A60-425C-9127-6ADAD22A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F2E-5BC9-40AD-8DB7-20A8DBD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48E1-24E7-4FCC-B057-B9946C16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8F75-F544-4B66-B378-1012BB38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3991-A3F2-44DA-BB2F-9C7A247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DFE4-30B3-4978-9DE5-0517AE1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BBFC-555C-4148-AD64-7749447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6DCD-5A29-4193-B31D-6E2188D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2E9A-18A4-4E75-BF97-1CA3191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C0D6-7721-4F61-9621-F8C9699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9C11-C9C6-478B-B8E0-F5A933D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F813-2DB0-43B0-A2FE-5AF88F7E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901-B785-4E57-BCE1-18E1801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25A3-FA58-4D2F-B395-E7990996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8973-7242-4640-BE76-F38F1BFA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A6A2-7D6D-45B4-B82F-8DD2F532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599CC-A4EA-4BE5-9912-E23CEEB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A1F04-B316-46E4-87C0-C6E3A93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1271-CBAC-4603-B3BE-BF3DF47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DBFA-5373-4DB5-A577-F237B00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371A-61B7-4BBD-876D-B438651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3BEA-271C-4E02-8D87-9526EAB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CCA0-2092-4D83-BADF-E0B3F4F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45E-1970-4AFD-B11B-9B888B1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AC9B-589A-4D39-AC9D-5AEFB95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E3DF2-63A5-4615-9747-3178D55D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5CC8-6FF9-4032-9D08-FB14E4FD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C6BA-B811-48CF-A9C6-1867D543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CF5F-7040-4FB6-8DE7-F15645A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7152-DE17-4FEB-95C3-BE84122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D0CB-D92D-4600-B400-AE0FE72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80FD-B2CB-4D76-A934-C04A05C9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78B6-CEE2-429A-95B6-55C619F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4E1B-CE65-433C-9C78-3BF4E47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B7E-5716-40BF-A831-91B4047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5393-30D1-45DB-8740-D95611E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F44D-06A5-4685-993E-B98A9EA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2DC8-0CCD-454E-8F09-968EA6A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FD78A-A461-4659-8AE6-7ECA95D7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D6D9E-818C-4989-A44B-B0149828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E002-11E4-423E-A57C-09125D48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9B8E1-BA23-45A7-8FFA-E9E929EF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5B439-B6FB-4A40-B370-6A9B615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FE45-A779-4498-B6CB-712322C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99CFC-9634-4227-9F73-566C174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168-BB03-4C30-9551-5200D92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3582-3882-42E1-842B-F261BC9C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4071-30E4-4570-B04E-645A601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6FF9-E185-4709-B639-D3B928A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E383-9BF9-4EA0-9866-C570298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EDF6-7E89-400A-98D6-622C80D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1CF8-9D44-4C47-998B-3FB0A402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85F44-BB71-483C-A620-191C7860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9767-6EF3-40C3-8114-67B0DB6A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4399E-4CEC-4466-98C9-5637542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C80D1-2761-471B-98FC-7C8BA16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64C6-26C8-40B4-8134-3E8234B5C1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D75-9FE6-499C-818C-16D9C5DA05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44B2-2C7C-4325-8A02-B5CC0CF9A7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22C-B1F5-482A-90E6-2DCF73CFE9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4E9-5ED9-4787-9353-901CD49B04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5C1A-2AA2-4224-8539-78A6DE158A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433-DD4B-4AE2-978E-3646AD8A6E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6F8-01AA-4E52-83D3-34A886E515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9C9-E37D-487D-A7B9-811BF058ED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94FE-F6DD-40D5-B991-8A0F86E018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251-E5B0-4232-BE76-5C0C8CF440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31D-46C5-480D-B3E4-D517B5F117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20  Úchvatná lásk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aľkou blíz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chvatná Lásk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aľkou blíz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sa krstom priznáva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vam ti, P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vrúcnu chv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tebe spásu poznáva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stvo kríža smer mi 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e úzkej k výši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úzkostiach, tiesn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útku,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y žriedlo buď  mi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iaca Láska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taň pri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 tvojej službe vytrv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uj mi sám.:/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31:30Z</dcterms:modified>
  <cp:revision>24</cp:revision>
  <dc:subject/>
  <dc:title>Je veľký náš Pán, on slávy je Kráľ Nech do všetkých strán  spev vrúcnych znie chvál.</dc:title>
</cp:coreProperties>
</file>